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7C4-88B4-4D7F-8213-96AB113A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2BC-885A-4EAB-9A4A-81810391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90C-7FA9-40E4-BA1D-6BA3E78B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E14-2BEC-4E58-8C11-416ADE0A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CD1E-E020-4F0B-9769-7ED8ECE4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23A8-3AA3-400A-8769-8EEC5D45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7167-AD2F-4882-A372-36D5E004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DFBA-3240-4ACB-9BD5-26BD09C3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FEA7-A100-470E-BB6D-0EEB95A6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6DB7-E442-49A4-813E-A8132A20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B484-32E4-44CE-918C-3CBE23AF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F9B-29D2-4C56-AB01-69A477D0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A204-8A33-4E41-8566-BBD36B20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082F-7536-4253-B7EF-94D1818C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FECF-F277-4A6B-B79B-6BA0B467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FE34-CF7E-40CF-8AE4-811A4B74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6393-03EF-4286-8C46-C8BD51B8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1D3-64A6-4F45-A32E-CF4DA98F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661-F2D9-4B03-8DB0-F8B51BF8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33B-F478-46E5-A931-9A0DAF60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0AF-5A78-4C35-928D-8E15C813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E64-9E56-419A-B212-C72216CA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D8F-FB0C-4DF4-89D0-061C50C6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98E-64ED-4359-B93B-9481E820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95C8-B6F6-4BFF-83F2-F262FFE612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89B2-64D7-4BA8-AD31-0DCF4189C6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УПРАВЉАЊ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ТРОШКОВ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штина ТСМ присту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прављања трошкови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ално извршење обавеза уз ниске трошко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ок квалитет производа/услуг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јкраће могуће вр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Управљање трошковим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је осмишљења стратегија праћења, анализе и контроле трошкова у једној организациј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сплицит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мплицитни (опортунитет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абил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еконтрабил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роч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угороч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рект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ндирект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0" name="image1.png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времени приступ управљању трошковим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С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иступ (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Total Cost Management Approa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ли тотално управљање  трошков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ндан је тоталном управљању квалитетом (TQ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OTAL подразумева примену ТСМ програма у целом предузећу и на све запосле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ум тражи на нивоу предузећа, а не на нивоу појединих организационих де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поручуј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одел 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'3Т – 3С – 3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' за ефикасну примену ТСМ приступ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управљања трошков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6" name="image2.png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ално управљање трошковима се постиже преко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ри компонен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зв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op Managemen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ухвата оцену садашњег окружења, садашњег функционисања, пословне филозофије и организационе структуре предузећа, а затим, делегирање задатака средњем менаџм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imely Reward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ухвата правовремени наградни систем у циљу афирмације иновација, креативности, организационе културе темељене на ТСМ присту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echnolog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тиче на конкурентску способност предузећ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(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ошкови) су условљени су тзв. </a:t>
            </a:r>
            <a:r>
              <a:rPr b="0" lang="sr-RS" sz="2200" spc="-1" strike="noStrike">
                <a:solidFill>
                  <a:srgbClr val="0000ff"/>
                </a:solidFill>
                <a:latin typeface="Arial"/>
              </a:rPr>
              <a:t>3С компонентам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mit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СМ захтева од свих запослених управљање обавезама: контрола пословања, перманентно образовање, стимулативно награђивање, што води непрекидном снижењу трошкова. У основи је превентивна контрола – спречавање настајања непотребних трошк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tinuous Edu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дстиче иновације за смањење трошкова и организациону културу која вреднује снижење трошк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ul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вај приступ подстиче стварање друштвене и организационе културе која непрекидно снижава трошкове, побољшава квалитет производа и време производње и дистрибу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3М компонент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ухвата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Missio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ТСМ приступ укључује мисију и дугорочне циљеве предузећ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Monitor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е састоји од самоконтроле и контроле једнаких. Сваки запослени врши самоконтролу  упоређивањем остварених са предвиђеним трошковима, а контрола једнаких подразумева да запослени контролишу  претходног  запосленог, чиме се учињена грешка благовремено отклања, и спречава ''зидање'' трошк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Mechanism of Change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технолошке и организационе промене су веома утицајан фактор на примену ТСМ. У ту сврху се отклањају статусне разлике, на пример, једнаке радне унифор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00:30:35Z</dcterms:modified>
  <cp:revision>170</cp:revision>
  <dc:subject/>
  <dc:title>Soft and Hard Skills Development: A Current Situation in Serbian Companies</dc:title>
</cp:coreProperties>
</file>